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07F-5BE7-4BF9-85B0-4A5F511C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8AD-A95A-4618-A0B4-F79B1424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496-5E94-47AC-AA7B-ECEED6A4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060-3A1F-448C-84BC-CA9608FC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67C-A466-421D-9A4D-3DB1786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7D8-7CE3-4C77-9AD0-B7191A2A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014-76AB-466B-B4C8-7175C1A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49D-8558-4E38-A8EE-40F6517D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A44-E0EF-4E8E-B364-AB91A09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C1C-EF38-42A9-9B7E-24CD852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DEC-08BC-42B3-B200-91C34F5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1D4-BBAA-4AFF-958D-50CF63F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000-794D-4D34-A01C-BEF350250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st Be Sant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3809880" y="838080"/>
            <a:ext cx="1371240" cy="685800"/>
            <a:chOff x="3809880" y="838080"/>
            <a:chExt cx="1371240" cy="685800"/>
          </a:xfrm>
        </p:grpSpPr>
        <p:graphicFrame>
          <p:nvGraphicFramePr>
            <p:cNvPr id="83" name=""/>
            <p:cNvGraphicFramePr/>
            <p:nvPr/>
          </p:nvGraphicFramePr>
          <p:xfrm>
            <a:off x="4194720" y="83808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4720" y="83808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AutoShape 6"/>
            <p:cNvSpPr/>
            <p:nvPr/>
          </p:nvSpPr>
          <p:spPr>
            <a:xfrm>
              <a:off x="3809880" y="107532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7" descr="C:\Documents and Settings\Welcome\Desktop\School PowerPoints\school clipart\moonstars.jpg"/>
          <p:cNvPicPr/>
          <p:nvPr/>
        </p:nvPicPr>
        <p:blipFill>
          <a:blip r:embed="rId5"/>
          <a:stretch/>
        </p:blipFill>
        <p:spPr>
          <a:xfrm>
            <a:off x="4114800" y="281952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5257800" y="3048120"/>
            <a:ext cx="1079640" cy="1218960"/>
            <a:chOff x="5257800" y="3048120"/>
            <a:chExt cx="1079640" cy="1218960"/>
          </a:xfrm>
        </p:grpSpPr>
        <p:pic>
          <p:nvPicPr>
            <p:cNvPr id="88" name="Picture 9" descr="C:\Documents and Settings\Welcome\Desktop\School PowerPoints\school clipart\santa2.jpg"/>
            <p:cNvPicPr/>
            <p:nvPr/>
          </p:nvPicPr>
          <p:blipFill>
            <a:blip r:embed="rId6"/>
            <a:stretch/>
          </p:blipFill>
          <p:spPr>
            <a:xfrm>
              <a:off x="5493600" y="30481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10"/>
            <p:cNvSpPr/>
            <p:nvPr/>
          </p:nvSpPr>
          <p:spPr>
            <a:xfrm>
              <a:off x="5257800" y="34970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4800600" y="2057400"/>
          <a:ext cx="10605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0574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657600" y="1523880"/>
          <a:ext cx="10414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152388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very soon will come ou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y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very soon will com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ht little reindeer pull hi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eigh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little reindeer pul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 sleig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Documents and Settings\Welcome\Desktop\School PowerPoints\school clipart\sleighreindeer.jpg"/>
          <p:cNvPicPr/>
          <p:nvPr/>
        </p:nvPicPr>
        <p:blipFill>
          <a:blip r:embed="rId2"/>
          <a:stretch/>
        </p:blipFill>
        <p:spPr>
          <a:xfrm>
            <a:off x="3581280" y="2133720"/>
            <a:ext cx="10670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indeer sleig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s our way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rry nos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429000" y="1676520"/>
            <a:ext cx="1371240" cy="685800"/>
            <a:chOff x="3429000" y="1676520"/>
            <a:chExt cx="1371240" cy="685800"/>
          </a:xfrm>
        </p:grpSpPr>
        <p:graphicFrame>
          <p:nvGraphicFramePr>
            <p:cNvPr id="100" name=""/>
            <p:cNvGraphicFramePr/>
            <p:nvPr/>
          </p:nvGraphicFramePr>
          <p:xfrm>
            <a:off x="3813840" y="167652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3840" y="167652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AutoShape 6"/>
            <p:cNvSpPr/>
            <p:nvPr/>
          </p:nvSpPr>
          <p:spPr>
            <a:xfrm>
              <a:off x="3429000" y="191376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3429000" y="2286000"/>
          <a:ext cx="91440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286000"/>
                    <a:ext cx="914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2819520"/>
          <a:ext cx="831960" cy="67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819520"/>
                    <a:ext cx="8319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9" descr="C:\Documents and Settings\Welcome\Desktop\School PowerPoints\school clipart\moonstars.jpg"/>
          <p:cNvPicPr/>
          <p:nvPr/>
        </p:nvPicPr>
        <p:blipFill>
          <a:blip r:embed="rId9"/>
          <a:stretch/>
        </p:blipFill>
        <p:spPr>
          <a:xfrm>
            <a:off x="3657600" y="3429000"/>
            <a:ext cx="609480" cy="5745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0"/>
          <p:cNvGrpSpPr/>
          <p:nvPr/>
        </p:nvGrpSpPr>
        <p:grpSpPr>
          <a:xfrm>
            <a:off x="4800600" y="3886200"/>
            <a:ext cx="990720" cy="838080"/>
            <a:chOff x="4800600" y="3886200"/>
            <a:chExt cx="990720" cy="838080"/>
          </a:xfrm>
        </p:grpSpPr>
        <p:pic>
          <p:nvPicPr>
            <p:cNvPr id="109" name="Picture 11" descr="C:\Documents and Settings\Welcome\Desktop\School PowerPoints\school clipart\santa2.jpg"/>
            <p:cNvPicPr/>
            <p:nvPr/>
          </p:nvPicPr>
          <p:blipFill>
            <a:blip r:embed="rId10"/>
            <a:stretch/>
          </p:blipFill>
          <p:spPr>
            <a:xfrm>
              <a:off x="5016960" y="3886200"/>
              <a:ext cx="7743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12"/>
            <p:cNvSpPr/>
            <p:nvPr/>
          </p:nvSpPr>
          <p:spPr>
            <a:xfrm>
              <a:off x="4800600" y="4194720"/>
              <a:ext cx="309960" cy="132120"/>
            </a:xfrm>
            <a:prstGeom prst="rightArrow">
              <a:avLst>
                <a:gd name="adj1" fmla="val 50000"/>
                <a:gd name="adj2" fmla="val 586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Picture 13" descr="C:\Documents and Settings\Welcome\Desktop\School PowerPoints\school clipart\sleighreindeer.jpg"/>
          <p:cNvPicPr/>
          <p:nvPr/>
        </p:nvPicPr>
        <p:blipFill>
          <a:blip r:embed="rId11"/>
          <a:stretch/>
        </p:blipFill>
        <p:spPr>
          <a:xfrm>
            <a:off x="4191120" y="0"/>
            <a:ext cx="1066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832120" cy="35938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2"/>
          <p:cNvGrpSpPr/>
          <p:nvPr/>
        </p:nvGrpSpPr>
        <p:grpSpPr>
          <a:xfrm>
            <a:off x="4495680" y="990720"/>
            <a:ext cx="1079640" cy="1218960"/>
            <a:chOff x="4495680" y="990720"/>
            <a:chExt cx="1079640" cy="1218960"/>
          </a:xfrm>
        </p:grpSpPr>
        <p:pic>
          <p:nvPicPr>
            <p:cNvPr id="45" name="Picture 10" descr="C:\Documents and Settings\Welcome\Desktop\School PowerPoints\school clipart\santa2.jpg"/>
            <p:cNvPicPr/>
            <p:nvPr/>
          </p:nvPicPr>
          <p:blipFill>
            <a:blip r:embed="rId3"/>
            <a:stretch/>
          </p:blipFill>
          <p:spPr>
            <a:xfrm>
              <a:off x="473148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11"/>
            <p:cNvSpPr/>
            <p:nvPr/>
          </p:nvSpPr>
          <p:spPr>
            <a:xfrm>
              <a:off x="449568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Documents and Settings\Welcome\Desktop\School PowerPoints\school clipart\moonstars.jpg"/>
          <p:cNvPicPr/>
          <p:nvPr/>
        </p:nvPicPr>
        <p:blipFill>
          <a:blip r:embed="rId3"/>
          <a:stretch/>
        </p:blipFill>
        <p:spPr>
          <a:xfrm>
            <a:off x="5486400" y="914400"/>
            <a:ext cx="9907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5943600" y="297180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Documents and Settings\Welcome\Desktop\School PowerPoints\school clipart\moonstars.jpg"/>
          <p:cNvPicPr/>
          <p:nvPr/>
        </p:nvPicPr>
        <p:blipFill>
          <a:blip r:embed="rId3"/>
          <a:stretch/>
        </p:blipFill>
        <p:spPr>
          <a:xfrm>
            <a:off x="4495680" y="45720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5943600" y="990720"/>
            <a:ext cx="1079640" cy="1218960"/>
            <a:chOff x="5943600" y="990720"/>
            <a:chExt cx="1079640" cy="1218960"/>
          </a:xfrm>
        </p:grpSpPr>
        <p:pic>
          <p:nvPicPr>
            <p:cNvPr id="54" name="Picture 6" descr="C:\Documents and Settings\Welcome\Desktop\School PowerPoints\school clipart\santa2.jpg"/>
            <p:cNvPicPr/>
            <p:nvPr/>
          </p:nvPicPr>
          <p:blipFill>
            <a:blip r:embed="rId4"/>
            <a:stretch/>
          </p:blipFill>
          <p:spPr>
            <a:xfrm>
              <a:off x="617940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7"/>
            <p:cNvSpPr/>
            <p:nvPr/>
          </p:nvSpPr>
          <p:spPr>
            <a:xfrm>
              <a:off x="594360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00600" y="1143000"/>
          <a:ext cx="10605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1430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5" descr="C:\Documents and Settings\Welcome\Desktop\School PowerPoints\school clipart\boots.jpg"/>
          <p:cNvPicPr/>
          <p:nvPr/>
        </p:nvPicPr>
        <p:blipFill>
          <a:blip r:embed="rId5"/>
          <a:stretch/>
        </p:blipFill>
        <p:spPr>
          <a:xfrm>
            <a:off x="3505320" y="1219320"/>
            <a:ext cx="120636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ars a long cap on his hea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ta wears a long cap on his h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66880" y="3886200"/>
          <a:ext cx="3479760" cy="22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886200"/>
                    <a:ext cx="34797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914400"/>
          <a:ext cx="106020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914400"/>
                    <a:ext cx="1060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Welcome\Desktop\School PowerPoints\school clipart\moonstars.jpg"/>
          <p:cNvPicPr/>
          <p:nvPr/>
        </p:nvPicPr>
        <p:blipFill>
          <a:blip r:embed="rId5"/>
          <a:stretch/>
        </p:blipFill>
        <p:spPr>
          <a:xfrm>
            <a:off x="4038480" y="1676520"/>
            <a:ext cx="70812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886200" y="228600"/>
          <a:ext cx="10414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22860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Group 7"/>
          <p:cNvGrpSpPr/>
          <p:nvPr/>
        </p:nvGrpSpPr>
        <p:grpSpPr>
          <a:xfrm>
            <a:off x="5486400" y="1981080"/>
            <a:ext cx="1079640" cy="1219320"/>
            <a:chOff x="5486400" y="1981080"/>
            <a:chExt cx="1079640" cy="1219320"/>
          </a:xfrm>
        </p:grpSpPr>
        <p:pic>
          <p:nvPicPr>
            <p:cNvPr id="72" name="Picture 8" descr="C:\Documents and Settings\Welcome\Desktop\School PowerPoints\school clipart\santa2.jpg"/>
            <p:cNvPicPr/>
            <p:nvPr/>
          </p:nvPicPr>
          <p:blipFill>
            <a:blip r:embed="rId8"/>
            <a:stretch/>
          </p:blipFill>
          <p:spPr>
            <a:xfrm>
              <a:off x="5722200" y="1981080"/>
              <a:ext cx="843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9"/>
            <p:cNvSpPr/>
            <p:nvPr/>
          </p:nvSpPr>
          <p:spPr>
            <a:xfrm>
              <a:off x="5486400" y="243036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great bi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great bi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6"/>
          <p:cNvGrpSpPr/>
          <p:nvPr/>
        </p:nvGrpSpPr>
        <p:grpSpPr>
          <a:xfrm>
            <a:off x="1676520" y="3657600"/>
            <a:ext cx="4342680" cy="2666160"/>
            <a:chOff x="1676520" y="3657600"/>
            <a:chExt cx="4342680" cy="2666160"/>
          </a:xfrm>
        </p:grpSpPr>
        <p:graphicFrame>
          <p:nvGraphicFramePr>
            <p:cNvPr id="76" name=""/>
            <p:cNvGraphicFramePr/>
            <p:nvPr/>
          </p:nvGraphicFramePr>
          <p:xfrm>
            <a:off x="2895840" y="3657600"/>
            <a:ext cx="3123360" cy="266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840" y="3657600"/>
                      <a:ext cx="3123360" cy="266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AutoShape 8"/>
            <p:cNvSpPr/>
            <p:nvPr/>
          </p:nvSpPr>
          <p:spPr>
            <a:xfrm>
              <a:off x="1676520" y="4580280"/>
              <a:ext cx="2133720" cy="614520"/>
            </a:xfrm>
            <a:prstGeom prst="rightArrow">
              <a:avLst>
                <a:gd name="adj1" fmla="val 50000"/>
                <a:gd name="adj2" fmla="val 8680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 ho?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, ho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41:12Z</dcterms:created>
  <dc:creator>Beth Spreen</dc:creator>
  <dc:description/>
  <dc:language>en-US</dc:language>
  <cp:lastModifiedBy>Amy Burns</cp:lastModifiedBy>
  <dcterms:modified xsi:type="dcterms:W3CDTF">2011-07-03T05:07:49Z</dcterms:modified>
  <cp:revision>37</cp:revision>
  <dc:subject/>
  <dc:title>Must Be Santa</dc:title>
</cp:coreProperties>
</file>